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4440" y="912960"/>
            <a:ext cx="3332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lassical Greece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0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7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istory and culture of classical Greece has a significant impact on the modern world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72280" y="1827360"/>
            <a:ext cx="54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Rule and Order in Greek City-State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69800" y="885960"/>
            <a:ext cx="381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Warring City-States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73360" y="2403360"/>
            <a:ext cx="5788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ity-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75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Greek city-state, or polis,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 gover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ol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a city and its surrounding villages; 50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 of a city-state is often less than 1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izens gather in the marketplace an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cropol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ified hill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3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4800" y="2174760"/>
            <a:ext cx="546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eek Political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y-states have different forms of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onarc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ule by a king;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ristocr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ule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Oligarc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rule by small group of powerfu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rchants and artis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83800" y="169056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Rule and Order in Greek City-States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4800" y="396540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rants Seiz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rs and common people clash in man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y-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yr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obles and wealthy citizens w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common peo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seize control and rule in the interests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dinary 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4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4080" y="159876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thens Builds a Limited Democracy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73360" y="2174760"/>
            <a:ext cx="544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Democ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out 62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emocr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ule by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—develops in Ath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bleman, Draco, develops legal code based 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ality of citiz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r Solon abolishes debt slavery; Cleisthen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citizens make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ly native-born, property-owning males a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73360" y="47577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henian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ooling only for sons of wealthy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irls learn from mothers and other female memb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house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1560" y="159876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parta Builds a Military Stat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Unique City-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arta, isolated from much of Greece, build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litary 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73360" y="3170160"/>
            <a:ext cx="541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rta Dominates Messen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ound 72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parta conquers Mess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ssenians becom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helo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peasants forced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rm the 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rsh rule leads to Messenian revolt; Sparta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stronger 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73360" y="498636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rta’s Government and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rta government has four branches; citize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 offic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social classes: citizens, free noncitizen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lots—sla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4800" y="2174760"/>
            <a:ext cx="5465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rtan Daily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rtan values: duty, strength, individualit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ipline over freed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rta has the most powerful army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es move into barracks at age 7, train unti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, serve until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rls receive some military training and li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y l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irls also taught to value service to Spart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bove all 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82000" y="1690560"/>
            <a:ext cx="38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Sparta Builds a Military State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4440" y="159876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Persian W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Kind of Army Eme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aper iron replaces bronze, making arms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mor che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s to new kind of army; includes soldiers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halan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feared by all, formation of soldiers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ars, shiel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3360" y="426240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ttle at Mara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ersian W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between Greece and Persi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ire—begin in I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ian army attacks Athens, is defeated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rathon in 49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770440"/>
            <a:ext cx="5419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eidippides Brings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nner Pheidippides races to Athens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nounce Greek vict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77680" y="1690560"/>
            <a:ext cx="27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Persian Wars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9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773360" y="2179800"/>
            <a:ext cx="5844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mopylae and Sala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48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ersians launch new invasion of Gre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ks are divided; many stay neutral or sid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k forces hold Thermopylae for three days bef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henians defeat Persians at sea, near island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a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ctories at Salamis and Plataea force Persian retr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city-states form Delian League and continu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ht Per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77680" y="1690560"/>
            <a:ext cx="27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Persian Wars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0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773360" y="2179800"/>
            <a:ext cx="5572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quences of the Persian W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self-confidence in Greece due to vi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hens emerges as leader of Delian Le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hens controls the league by using force agains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pon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gue members essentially become provinc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henian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ge is set for a dazzling burst of creativity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h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1366920" y="2486160"/>
            <a:ext cx="7175880" cy="1600560"/>
            <a:chOff x="1366920" y="2486160"/>
            <a:chExt cx="7175880" cy="1600560"/>
          </a:xfrm>
        </p:grpSpPr>
        <p:sp>
          <p:nvSpPr>
            <p:cNvPr id="210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66920" y="2895480"/>
              <a:ext cx="717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Democracy and Greece’s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Golden Age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370160" y="4135320"/>
            <a:ext cx="60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ocratic principles and classical culture flourish during Greece’s golden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3000" y="182736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ericles’ Plan for Athe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67280" y="960480"/>
            <a:ext cx="4836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Democracy and Greece’s 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Golden Ag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73360" y="2403360"/>
            <a:ext cx="5864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cles as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ful politician, inspiring speaker, respe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ates life in Athens from 461 to 429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3360" y="363528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onger Democ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cles hires more public officials; creates direc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cra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irect democr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itizens rule directly, no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 represent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4440" y="912960"/>
            <a:ext cx="3332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lassical Greece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0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3360" y="2502000"/>
            <a:ext cx="45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es of the Mountains and the S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5880" y="307800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rring City-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1560" y="359100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ocracy and Greece’s Golden 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7320" y="412920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exander’s Emp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48040" y="4680000"/>
            <a:ext cx="48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read of the Hellenistic Cul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46240" y="46735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80200" y="1690560"/>
            <a:ext cx="33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ericles’ Plan for Athe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73360" y="2174760"/>
            <a:ext cx="5965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henian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es over Delian League; uses money to strength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henian fle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rta and other cities resent Athenian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98560" y="3483000"/>
            <a:ext cx="5572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lorifying Ath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cles buys gold, ivory, marble; hires artisans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autify Ath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72640" y="159876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Glorious Art and Architectur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e and Sculp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cles builds the Parthenon—a large temple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nor goddess Ath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in temple, sculptor Phidias crafts 30-foo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ue of Ath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ulptors create graceful, strong, perfec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ed fig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lassical 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values harmony, order, balanc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, beau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75160" y="159876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Drama and History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73360" y="2174760"/>
            <a:ext cx="588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gedy and Com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ks invent drama as an art form; includes choru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nce, po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forms of drama: tragedy and come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rage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ells story of heroes’ downfall; themes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ve, hate, w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me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akes fun of politics and respec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; slapstick hu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k dramatists include Aeschylus, Euripid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istopha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73360" y="5108400"/>
            <a:ext cx="5965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ians Herodotus and Thucydides record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y past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72280" y="159876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thenians and Spartans Go to W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r Be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ity-states Sparta and Athens at war—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eloponnesian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3360" y="317016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loponnesian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rta has better army, Athens has better nav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gue strikes Athens in 43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kills many—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ing Per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rta and Athens sign truce in 42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73360" y="4719600"/>
            <a:ext cx="5419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rta Gains Vi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thens renews war, attacks Syracrus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defeated in 41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hens and allies surrender to Sparta in 40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73000" y="159876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hilosophers Search for Truth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73360" y="2174760"/>
            <a:ext cx="55465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e of Great Philosop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the war, rise of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hilosop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hinker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lovers of wisdom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ieve universe is subject to absolute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changing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could understand these laws through logic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phist philosopher Protagoras question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of Greek g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73360" y="4821120"/>
            <a:ext cx="5673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c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ocr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believes in questioning, self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ination of values,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icted of corrupting young people; sentenced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th in 399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74800" y="2174760"/>
            <a:ext cx="5338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la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tudent of Socrates; writ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n idea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38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establishes Athens school,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ademy; lasts 90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 writings dominate European philosoph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,50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80560" y="1690560"/>
            <a:ext cx="39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hilosophers Search for Tr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74800" y="4295880"/>
            <a:ext cx="5338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isto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risto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tudent of Plato; uses rules of logi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 work provides the basis for scientifi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, still used 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tors 13-year-old prince who becom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exander the G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369800" y="2486160"/>
            <a:ext cx="5677560" cy="1078200"/>
            <a:chOff x="1369800" y="2486160"/>
            <a:chExt cx="5677560" cy="1078200"/>
          </a:xfrm>
        </p:grpSpPr>
        <p:sp>
          <p:nvSpPr>
            <p:cNvPr id="290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69800" y="2784600"/>
              <a:ext cx="56775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Alexander’s Empire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370160" y="350028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exander the Great conquers Persia and Egypt and extends his empire to the Indus River in northwest In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70840" y="1827360"/>
            <a:ext cx="49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hilip Builds Macedonian Powe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720" y="885960"/>
            <a:ext cx="384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Alexander’s Empire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73360" y="2403360"/>
            <a:ext cx="5788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ed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cedo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kingdom of mountain villages north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King Philip 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uler, brilliant general; dreams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ing Gre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edonians call themselves Greek; rest of Greec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73360" y="4464000"/>
            <a:ext cx="571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ilip’s A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 creates well-trained professional army; pla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invade Gree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0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quest of Gre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acedonians defeat Greece; 33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g Philip mur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 son named king of Macedonia—becom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lexander the G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81640" y="1690560"/>
            <a:ext cx="412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hilip Builds Macedonian Power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1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76600" y="159876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lexander Defeats Persi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73360" y="2174760"/>
            <a:ext cx="544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exander’s Early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tored by Aristotle; inspired by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li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ha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omes king when 20 years old; destroy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bes to curb rebe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73360" y="3652920"/>
            <a:ext cx="5419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asion of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lexander invades Persia; quick victor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Granicus 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arius I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king of Persia, assembles army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,000–75,000 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exander defeats Persians again, forces King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ia to fl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2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70880" y="2486160"/>
            <a:ext cx="7389360" cy="1600560"/>
            <a:chOff x="1370880" y="2486160"/>
            <a:chExt cx="7389360" cy="1600560"/>
          </a:xfrm>
        </p:grpSpPr>
        <p:sp>
          <p:nvSpPr>
            <p:cNvPr id="6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0880" y="2895480"/>
              <a:ext cx="738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Cultures of the Mountains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and the Sea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371240" y="4135320"/>
            <a:ext cx="71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oots of Greek culture are based on intera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Mycenaean, Minoan, and Dorian cul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73360" y="2174760"/>
            <a:ext cx="588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quering the Persian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exander marches into Egypt, crowned pharaoh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Gaugamela in Mesopotamia, Alexander defea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ians a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exander captures cities of Babylon, Susa,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e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epolis, the Persian capital, burned to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hes of Persepolis signal total destruction of Persi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p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78400" y="1690560"/>
            <a:ext cx="34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lexander Defeats Persia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3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74800" y="15987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lexander’s Other Conquest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exander in 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exander fights his way across the deserts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al Asia to 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exander conquers Indus Valley area in 32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uctantly returns to Babylon, dies in 32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73360" y="3754440"/>
            <a:ext cx="5788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exander’s Leg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exander melds Greek and Persian cultures; wife 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ire becomes three kingdom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) Macedonia, Greek city-sta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2) Egyp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3) old Persia, also known as Seleucid king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4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369800" y="2486160"/>
            <a:ext cx="7169760" cy="1600560"/>
            <a:chOff x="1369800" y="2486160"/>
            <a:chExt cx="7169760" cy="1600560"/>
          </a:xfrm>
        </p:grpSpPr>
        <p:sp>
          <p:nvSpPr>
            <p:cNvPr id="347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69800" y="2895480"/>
              <a:ext cx="716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Spread of Hellenistic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Culture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370160" y="404640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lenistic culture, a blend of Greek and other influences, flourishes throughout Greece, Egypt, and Asi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71920" y="182736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Spread of Hellenistic Cul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885960"/>
            <a:ext cx="62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Spread of Hellenistic Cultu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73360" y="2403360"/>
            <a:ext cx="5788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lenistic Culture in Alexand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of Alexander’s policies—a new vibrant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ellenistic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reek blended with Egyptia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ian, Ind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73360" y="3638520"/>
            <a:ext cx="571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de and Cultural 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lexand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Egyptian city becomes center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llenistic civi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73360" y="4603680"/>
            <a:ext cx="57117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exandria’s Att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house, called the Pharos, stands over 35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eet 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eum contains art galleries, a zoo, botanic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rdens, dining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brary holds masterpieces of ancient literatur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schol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714680" y="797040"/>
            <a:ext cx="658800" cy="511920"/>
            <a:chOff x="1714680" y="797040"/>
            <a:chExt cx="658800" cy="511920"/>
          </a:xfrm>
        </p:grpSpPr>
        <p:sp>
          <p:nvSpPr>
            <p:cNvPr id="360" name=""/>
            <p:cNvSpPr/>
            <p:nvPr/>
          </p:nvSpPr>
          <p:spPr>
            <a:xfrm>
              <a:off x="1714680" y="79704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87480" y="99864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87480" y="97164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74080" y="15987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cience and Technology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exandria’s Scho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olars preserve Greek and Egyptian learn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scie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73360" y="3132000"/>
            <a:ext cx="6080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tr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tronomer Aristarchus proves sun is larger than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ses planets revolve around sun; not accepted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 centu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atosthenes uses geometry to calculate Earth’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rcum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73360" y="492300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hematics and 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uc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athematician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basi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s in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rchime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cientist; ideas help build forc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mp and steam eng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714680" y="797040"/>
            <a:ext cx="658800" cy="511920"/>
            <a:chOff x="1714680" y="797040"/>
            <a:chExt cx="658800" cy="511920"/>
          </a:xfrm>
        </p:grpSpPr>
        <p:sp>
          <p:nvSpPr>
            <p:cNvPr id="371" name=""/>
            <p:cNvSpPr/>
            <p:nvPr/>
          </p:nvSpPr>
          <p:spPr>
            <a:xfrm>
              <a:off x="1714680" y="79704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87480" y="99864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87480" y="97164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73000" y="159876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hilosophy and Art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icism and Epicure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eno founds Stoic school; promoted virtuou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 li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picurus believes people should focus on wh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nses perce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73360" y="3716280"/>
            <a:ext cx="54194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ism in Sculp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lossus of Rh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Hellenistic bronz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ulpture over 100 feet t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ulptors move to non-classical, natural forms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al peo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714680" y="797040"/>
            <a:ext cx="658800" cy="511920"/>
            <a:chOff x="1714680" y="797040"/>
            <a:chExt cx="658800" cy="511920"/>
          </a:xfrm>
        </p:grpSpPr>
        <p:sp>
          <p:nvSpPr>
            <p:cNvPr id="381" name=""/>
            <p:cNvSpPr/>
            <p:nvPr/>
          </p:nvSpPr>
          <p:spPr>
            <a:xfrm>
              <a:off x="1714680" y="79704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7480" y="99864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87480" y="97164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3720" y="182736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Geography Shapes Greek Lif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71240" y="941400"/>
            <a:ext cx="48776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Cultures of the Mountains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and the Sea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2428920"/>
            <a:ext cx="57848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cient Gre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ion of separate lands where Greek-speaking people 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s mainland and about 2,000 isl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73360" y="3689280"/>
            <a:ext cx="557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ea shapes Greek civi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ximity to sea, lack of resources encourag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a travel and t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0560" y="1690560"/>
            <a:ext cx="38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eography Shapes Greek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73360" y="2174760"/>
            <a:ext cx="5965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ains slow travel, divide land into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fertile land leads to small population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colon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8560" y="3483000"/>
            <a:ext cx="5572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 climate promotes outdoor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eek men, especially, spend much of their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74440" y="1598760"/>
            <a:ext cx="49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ycenaean Civilization Deve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ycenae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Indo-Europeans who settl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Greek mainland in 2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ok their name from their leading city, Mycen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ycenaean warrior-kings dominate Greec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1600–11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73360" y="3944880"/>
            <a:ext cx="5419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ct with Min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15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Mycenaeans adopt Mino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a trade and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3360" y="4910040"/>
            <a:ext cx="54194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rojan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rojan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fought by Mycenaea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ainst city of Troy in 1200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thought to be fictional, archaeologic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idence has been f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4440" y="159876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Greek Culture Declines Under the Dor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773360" y="2174760"/>
            <a:ext cx="55465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rians Replace Mycena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cenaean civilization collapses around 12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or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ossibly relatives of Bronze Ag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ks—move into Gre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advanced than Mycenaeans, Dorians lea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written rec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3360" y="3957480"/>
            <a:ext cx="5673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pics of H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al tradition grows, especially epics of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ind storyte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p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narrative poem about heroic d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mer’s epic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li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bout Trojan War, show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eek heroic id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74800" y="2174760"/>
            <a:ext cx="5338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eeks Create My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ks develop their ow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yt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radition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ies about g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ks seek to understand mysteries of lif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 my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ks attribute human qualities—love, ha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alousy—to their g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eus, ruler of Gods, lives on Mount Olympu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his wife, He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eus’s daughter Athena is goddess of wisd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guardian of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82360" y="1690560"/>
            <a:ext cx="49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Greek Culture Declines Under the Dori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0160" y="347976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city-states in Greece leads to the development of several political systems, including democr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70160" y="2397240"/>
            <a:ext cx="6010200" cy="1032840"/>
            <a:chOff x="1370160" y="2397240"/>
            <a:chExt cx="6010200" cy="1032840"/>
          </a:xfrm>
        </p:grpSpPr>
        <p:sp>
          <p:nvSpPr>
            <p:cNvPr id="123" name=""/>
            <p:cNvSpPr/>
            <p:nvPr/>
          </p:nvSpPr>
          <p:spPr>
            <a:xfrm>
              <a:off x="1370160" y="23972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0160" y="2787480"/>
              <a:ext cx="601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Warring City-States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1:54:07Z</dcterms:modified>
  <cp:revision>822</cp:revision>
  <dc:subject/>
  <dc:title>No Slide Title</dc:title>
</cp:coreProperties>
</file>